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camera.wav" ContentType="audio/x-wav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C4A9-5819-4D52-AD47-966E75C98A89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finitie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 a si b doua numere naturale. Spunem ca a divide b , si scriem a|b daca exista un numar natural c, astfel incat a*c=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dar a divide b , daca a este un factor al lui b. Daca a divide pe b atunci  a este divizor al lui b, b este un multiplu al lui a si b este divizibil cu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a ,, divizibilitatea pe N ,, este o relatie de ordin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|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 si b|a atunci a=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 si b|c atunci a|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c|a si c|b, atunci c| (ax + by), oricare ar fi perechea x, y numere natura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, atunci a|bz pentru orice z numar na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o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ca a|b, atunci a este cel mult egal cu b sau b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riter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4, daca si numai daca numarul reprezentat de ultimele doua cifre este divizibil cu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8, daca si numai daca numarul reprezentat de ultimele trei cifre este divizibil cu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9 , daca si numai daca suma cifrelor sale este divizibila cu 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11, daca si numai daca 11 divide diferenta dintre suma cifrelor de rang par si suma cifrelor de rang imp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7, daca si numai daca diferenta dintre numarul scris fara ultima cifra si dublul ultimei cifre este divizibila cu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numar este divizibil cu 13 , daca si numai daca diferenta dintre numarul format cu ultimele trei cifre si numarul format cu toate celelalte cifre este divizibila cu 13 ( valabil si pentru 7 si 11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204-B24D-45B6-9C39-D3ACC0F34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AB94-DDBD-4753-A1B9-C4D550CB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892-D8CC-4A8F-B6BC-0572F87F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A8C-80F6-42CC-9EBB-9DEA443F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73F8-9C1E-4D81-B77C-9F6094F6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DBB6-6647-4438-B07F-4A5DAE42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BED8-998A-4F67-9542-FB2F5F9D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2EE8-5C02-44A0-B4C5-47BDAC33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6007-66AD-4062-9F05-8F85DD3E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C8D5-6563-40A4-8A0A-D1DAD5CC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686C-A31C-4703-B7EF-FE311DAC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463-0389-45C1-AC7B-31BA792A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EAD-5A1D-4D26-A5F1-C3A4EFEB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ED0F-997B-4F5E-8C2F-D506ABF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EAE5-2598-4756-99D3-78F04341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7DA5-5299-48FD-A0EA-A6EF1FA8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5121-57A2-4DFA-B1E1-903A30D2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A70A-906C-46E7-A587-B53704D7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44D-AD9B-4C9E-969F-15671181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784-6A3D-436E-9661-C3BDFFC3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7AC-0955-4E58-B747-32D0258A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28F-C61B-401E-9D0B-DD118C1C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EA5-8A9D-41AD-8009-0DE8F20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3FF-6ED2-4A41-9A83-84382929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06A-D15C-4122-8354-45E8FF02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01E7-C071-458E-ACE4-17A7562038CF}" type="slidenum"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F0E7-C422-4111-A5C7-3CC9EAF0F4E6}" type="slidenum"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09680" y="549360"/>
            <a:ext cx="6934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Divizibilitatea </a:t>
            </a:r>
            <a:r>
              <a:rPr b="0" i="1" lang="ro-RO" sz="4800" spc="-1" strike="noStrike">
                <a:solidFill>
                  <a:srgbClr val="ff0000"/>
                </a:solidFill>
                <a:latin typeface="Times New Roman"/>
              </a:rPr>
              <a:t>î</a:t>
            </a: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n gimnaziu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0560" y="5084640"/>
            <a:ext cx="69058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Aprofundare si extinde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2637000"/>
            <a:ext cx="69483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69000"/>
                  </a:srgbClr>
                </a:solidFill>
                <a:latin typeface="Arial Black"/>
              </a:rPr>
              <a:t>clasa a V 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>
                  <a:alpha val="69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35160" y="0"/>
          <a:ext cx="787248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0"/>
                    <a:ext cx="787248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224000" y="1843200"/>
          <a:ext cx="7920000" cy="30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843200"/>
                    <a:ext cx="7920000" cy="30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224000" y="1125360"/>
          <a:ext cx="7920000" cy="37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125360"/>
                    <a:ext cx="792000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95560" y="692280"/>
          <a:ext cx="7948440" cy="516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5560" y="692280"/>
                    <a:ext cx="794844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116000" y="1341360"/>
          <a:ext cx="8304120" cy="334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830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519200" y="604800"/>
          <a:ext cx="7329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604800"/>
                    <a:ext cx="73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Times New Roman"/>
              </a:rPr>
              <a:t>Divizibilitatea numerelor intregi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8960" y="5157720"/>
            <a:ext cx="792468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Gimnazi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835280" y="2421000"/>
            <a:ext cx="756108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71000"/>
                  </a:srgbClr>
                </a:solidFill>
                <a:latin typeface="Arial Black"/>
              </a:rPr>
              <a:t>clasa a VI 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>
                  <a:alpha val="71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vizibilitatea numerelor întreg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finitie  :  Fie a si b doua numere intregi. Spunem ca a divide pe b, si scriem a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, daca exista un numar intreg c astfel incat a 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·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 = b.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adar, intregii care divid numarul b se numesc divizorii lui b, iar numerele ka (</a:t>
            </a:r>
            <a:r>
              <a:rPr b="0" lang="ro-RO" sz="28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ntreg , nenul ) se numesc multiplii lui 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eorema  : Fie a si b ( b nenul ) doua numere intregi . Exista doua numere intregi c si r,unic determinate, astfel incat a = cb +r si r&lt;|b|, r nenegativ. Numarul c se numeste catul, iar r restul impartirii lui a la b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ivizorii unui numar intre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m.m.d.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m.m.m.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umere prime intre e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roprietati ale relatiei de divizibilitate - teor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492200" y="304920"/>
          <a:ext cx="7224840" cy="57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304920"/>
                    <a:ext cx="722484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e propriet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ă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ale rela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e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ore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ibliografi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. Dancila – Divizibilitatea numerelor, Ed. SIGMA,200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2000+…- D. Branzei, Ed. Paralela 45,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Teme – P Alexandrescu, Ed. Paralela 45, 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2000+…- S. Peligrad, Ed.Paralela 45,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te Teme – P Alexandrescu,Ed Paralela 45,2005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Întocmit 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fesor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SAVIN DORIN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COALA PETRU RAREŞ – NR. 25 - GALAŢ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priet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ă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 ale rela</a:t>
            </a:r>
            <a:r>
              <a:rPr b="0" lang="ro-RO" sz="44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e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27664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efinitie : Fie a si b doua numere naturale. Spunem ca a divide pe b, si scriem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 b, daca exista un numar natural c, astfel incat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·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 =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. Asadar a divide pe b,  daca a este factor al lui b. Daca a divide pe b, a este un divizor al lui b, b este un multiplu al lui a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Relatia ,, </a:t>
            </a:r>
            <a:r>
              <a:rPr b="0" i="1" lang="en-US" sz="2100" spc="-1" strike="noStrike">
                <a:solidFill>
                  <a:srgbClr val="eaeaea"/>
                </a:solidFill>
                <a:latin typeface="Times New Roman"/>
              </a:rPr>
              <a:t>divizibilitate pe N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,, este o relatie de ordine :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a ; 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 si b|a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; 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 si b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c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a si c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, atunci c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 ( ax + by ), oricare-ar fi perechea de numere intregi (x,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y)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,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z pentru orice z numar intreg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, atunci a este cel mult egal cu b, sau b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0 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Daca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 s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b+c atunci a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|</a:t>
            </a:r>
            <a:r>
              <a:rPr b="0" lang="ro-RO" sz="21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lte criteri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ile de divizibilitate cu 4,8, 9, 2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ile de divizibilitate cu 11, 7, 1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riterii de divizibilit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1170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4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reprezentat de ultimele dou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ifre este divizibil cu 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8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reprezentat de ultimele trei cifre este divizibil cu 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9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uma cifrelor sale este divizibil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u 9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25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reprezentat de ultimele dou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ifre este divizibil cu 25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11,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1 divide diferen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 dintre suma cifrelor de rang par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suma cifrelor de rang impa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se divide cu 7,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s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iferen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 dintre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scris fara ultima cifra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dublul ultimei cifre este divizibil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cu 7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 este divizibil cu 13 ( 7 sau 11 )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diferen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 dintre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format cu ultimele trei cifre si num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rul format cu toate celelalte cifre este divizibil cu 13 ( 7 sau 11 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3 | abcde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ş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 numai dac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ă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3 | (cde</a:t>
            </a:r>
            <a:r>
              <a:rPr b="0" lang="ro-RO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- ab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plica</a:t>
            </a:r>
            <a:r>
              <a:rPr b="0" lang="ro-RO" sz="36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i la scrierea unui num</a:t>
            </a:r>
            <a:r>
              <a:rPr b="0" lang="ro-RO" sz="3600" spc="-1" strike="noStrike">
                <a:solidFill>
                  <a:srgbClr val="ffcc66"/>
                </a:solidFill>
                <a:latin typeface="Times New Roman"/>
              </a:rPr>
              <a:t>ă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r natural ca produs de puteri de numere prime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m. m. d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 m. m. m.c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ere prime 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î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tre e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ere perfec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ere amiabile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 ( numere prietene 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 divizorilor unui 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natur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l numerelor naturale mai mici de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â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 n si prime cu 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Aplica</a:t>
            </a:r>
            <a:r>
              <a:rPr b="0" lang="ro-RO" sz="3600" spc="-1" strike="noStrike">
                <a:solidFill>
                  <a:srgbClr val="ffcc66"/>
                </a:solidFill>
                <a:latin typeface="Times New Roman"/>
              </a:rPr>
              <a:t>ţ</a:t>
            </a: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mplificarea fra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ucerea fra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 la cel mai mic numitor comu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zolvarea exer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i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 de tipul :a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natural, a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ireductibil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compararea frac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ţ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ilor (b num</a:t>
            </a:r>
            <a:r>
              <a:rPr b="0" lang="ro-RO" sz="3200" spc="-1" strike="noStrike">
                <a:solidFill>
                  <a:srgbClr val="eaeaea"/>
                </a:solidFill>
                <a:latin typeface="Times New Roman"/>
              </a:rPr>
              <a:t>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natural nenu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6094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0"/>
            <a:ext cx="7924680" cy="72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6040" indent="-623880" algn="ctr">
              <a:spcBef>
                <a:spcPts val="1349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el mai mare divizor comu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Definitie</a:t>
            </a:r>
            <a:r>
              <a:rPr b="0" i="1" lang="ro-RO" sz="14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el mai mare divizor comun a doua ( sau mai multe) numere nenule este cel mai mare numar care divide toate numerele si este divizibil cu orice numar care divide toate numerele dat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Metode de a afla c.m.m.d.c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Metoda intersectiei ( multimilor divizorilor 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Metoda factorizarii ( scrierii sub forma de produs de puteri de numere prime 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Algoritmul lui Euclid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– Fie a si b , a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, doua numere natural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Etapa 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- impartim a cu b; obtinem a = b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·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+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&lt; 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 atunci b este c.m.m.d.c. al numerelor a si b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Etapa 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– 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nenul, impartim pe b l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si avem b =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ro-RO" sz="14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+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unde 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natural si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&lt;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. 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0 atunci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c.m.m.d.c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eaeaea"/>
                </a:solidFill>
                <a:uFillTx/>
                <a:latin typeface="Times New Roman"/>
              </a:rPr>
              <a:t>Etapa 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– dac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nenul, impartim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la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si avem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=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o-RO" sz="14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·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+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,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&lt;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Procesul continua pana cand obtinem un rest egal cu 0. Fie r</a:t>
            </a:r>
            <a:r>
              <a:rPr b="0" lang="en-US" sz="1400" spc="-1" strike="noStrike" baseline="-25000">
                <a:solidFill>
                  <a:srgbClr val="eaeaea"/>
                </a:solidFill>
                <a:latin typeface="Times New Roman"/>
              </a:rPr>
              <a:t>(n+1</a:t>
            </a:r>
            <a:r>
              <a:rPr b="0" lang="ro-RO" sz="1400" spc="-1" strike="noStrike" baseline="-25000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acesta.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C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.m.m.d.c. (a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) = r(n), unde r(n) este ultimul rest nenul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Observatii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ultimul rest este egal cu unitatea , atunci numerele date sunt prime intre el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doua resturi consecutive se regasesc ca prime intre ele, putem sa nu mai continuam impartirile, caci ultimul rest va fi 1, deci numerele sunt prime intre ele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Algoritmul lui Euclid este de preferat cand descompunerea in factori primi a numerelor este dificila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aeaea"/>
                </a:solidFill>
                <a:latin typeface="Times New Roman"/>
              </a:rPr>
              <a:t>Teorem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aca a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 sunt numere naturale astfel ca a sa fie cel putin egal cu b, c.m.m.d.c. (a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) =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.m.m.d.c. (a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,</a:t>
            </a:r>
            <a:r>
              <a:rPr b="0" lang="ro-RO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b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Consecint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Doua numere naturale nu pot avea un divizor comun mai mare decat diferenta lor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716040" indent="-6238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74920" y="264960"/>
          <a:ext cx="7387920" cy="697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264960"/>
                    <a:ext cx="7387920" cy="697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3:13:11Z</dcterms:created>
  <dc:creator>1q</dc:creator>
  <dc:description/>
  <dc:language>en-US</dc:language>
  <cp:lastModifiedBy>Cursant17</cp:lastModifiedBy>
  <dcterms:modified xsi:type="dcterms:W3CDTF">2010-08-25T11:12:07Z</dcterms:modified>
  <cp:revision>68</cp:revision>
  <dc:subject/>
  <dc:title>Divizibilitatea in gimnaziu</dc:title>
</cp:coreProperties>
</file>